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496B-A098-44C7-ADE8-142E4C388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going from a shared exon range to a non-shared exon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s a bunch of lookup queries as well not included here. Also an exon range change can very possible trigger a transcript &amp; gene range change - not shown here(there would be Apollo transactions for that as wel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clear why its hard to go from Chado transactions to Apollo transactions - how can you tell which Chado transactions get lumped into an Apollo transaction? Theres no way to add anything to Chado transactions to indicate as much (no compound transacti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rducing compound transaction concept as well with 1 edit to 2 Apollo t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oute is not being used or tested (an abandoned rice rou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ere actually implementing this strategy for rice/gmod, but Guanming recoginized it was pretty easy given the Chado transaction to just write out sql and do jdbc write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theless for debugging purposes the Chado transaction xml is really h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act Chado xml transactions and Chado sql and java Chado transactions are all just different manifestations of an operation on a Chado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tested &amp; debugged for rice Chado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ve fixed a lot of bugs here - its in pretty good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name adapter gets a gene name edit and then changes the names of transcripts, proteins and ex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undo purposes name transactions are lumped into one compound transaction(covered in next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dapter slide is an example of an edit that causes a compound transaction - gene name edit causes transcript exon &amp; protein names to be ch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s use the Command design pattern - which yields u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re assuming all of you in the audience are familiar with Apollo, GMOD’s annotation curation 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: view annotations (as GIF in web p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: view, edit, create annotations based on computational results; lets you modify transcript structures and edit auxiliary information associated with anno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 is a Java application.  Easy to install on your c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with the jdbc reader is to become fully configurable, so you don’t have to write java to configure (similar to name adap 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game.dtd is inaccurate and should be ignored—use game.rng inst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alking through this slide, mention that Mark will discuss the first two points and then Nomi will talk about the ChadoXML adapter, recent minor improvements and future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d like more feedback from the Apollo community about what they’d like to see in Apollo—talk to us or send us em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e action -&gt; many trans is the motivation for compound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pretty good but not perfect yet… some redundant edits still get through - not the end of the world just means a few extra commits to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Have to coalesce at commit time not during editing session for undo to work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F40-601F-4518-8B93-A8A68FF5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644-762E-4A88-81A7-70B88110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A68-9915-4471-9CCD-DA7B8ADD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D05-507B-43E5-9753-3D841143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EA2-004E-4147-A99F-90AA6DFA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3052-A237-4B5F-95C4-9321978B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AFB-BAFB-493F-AFF8-2BFFEDE6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623-5C69-4B4E-816E-AD2749F2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6E2-94BF-4020-91DB-75841AC3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986-C232-46E4-91B8-2FD25391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626-A69E-433B-ADC5-95CDE44C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510-64CF-4D25-ADED-BD4754DF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9DC4-BC03-4405-A8F5-0626EB97D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ollo Progress Report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 Harris and Mark Gibson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keley Drosophila Genom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57913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S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6-17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718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im save for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s transactions in separate xml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 &amp; Chado XML adapters save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accompanying data 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179064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1"/>
          </p:cNvCxnSpPr>
          <p:nvPr/>
        </p:nvCxnSpPr>
        <p:spPr>
          <a:xfrm>
            <a:off x="5105520" y="2133360"/>
            <a:ext cx="9151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886200" y="1676520"/>
            <a:ext cx="1219320" cy="9144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3"/>
            <a:endCxn id="131" idx="2"/>
          </p:cNvCxnSpPr>
          <p:nvPr/>
        </p:nvCxnSpPr>
        <p:spPr>
          <a:xfrm>
            <a:off x="3123720" y="2133360"/>
            <a:ext cx="762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019920" y="1714680"/>
            <a:ext cx="1523880" cy="8380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nterim s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Apollo Transaction to Chado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166860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170640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170640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7" idx="3"/>
            <a:endCxn id="136" idx="2"/>
          </p:cNvCxnSpPr>
          <p:nvPr/>
        </p:nvCxnSpPr>
        <p:spPr>
          <a:xfrm>
            <a:off x="3352320" y="2049120"/>
            <a:ext cx="686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6" idx="6"/>
            <a:endCxn id="138" idx="1"/>
          </p:cNvCxnSpPr>
          <p:nvPr/>
        </p:nvCxnSpPr>
        <p:spPr>
          <a:xfrm>
            <a:off x="5181120" y="2049120"/>
            <a:ext cx="686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5257800" y="2362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n Range Chang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user edit to many Apollo trans. (compou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pollo transactions to many Chado tr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 exons are 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 lookups not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1828800"/>
            <a:ext cx="1523880" cy="838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on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 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666880"/>
            <a:ext cx="1371600" cy="838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12193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 Ex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21337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12193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te 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3"/>
            <a:endCxn id="149" idx="2"/>
          </p:cNvCxnSpPr>
          <p:nvPr/>
        </p:nvCxnSpPr>
        <p:spPr>
          <a:xfrm>
            <a:off x="3352320" y="2247840"/>
            <a:ext cx="229320" cy="115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6"/>
            <a:endCxn id="146" idx="1"/>
          </p:cNvCxnSpPr>
          <p:nvPr/>
        </p:nvCxnSpPr>
        <p:spPr>
          <a:xfrm flipV="1">
            <a:off x="4724280" y="1599480"/>
            <a:ext cx="1982160" cy="762840"/>
          </a:xfrm>
          <a:prstGeom prst="curvedConnector5">
            <a:avLst>
              <a:gd name="adj1" fmla="val 83560"/>
              <a:gd name="adj2" fmla="val 50000"/>
              <a:gd name="adj3" fmla="val 835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6"/>
            <a:endCxn id="148" idx="1"/>
          </p:cNvCxnSpPr>
          <p:nvPr/>
        </p:nvCxnSpPr>
        <p:spPr>
          <a:xfrm flipV="1">
            <a:off x="4724280" y="1599480"/>
            <a:ext cx="153360" cy="762840"/>
          </a:xfrm>
          <a:prstGeom prst="curvedConnector5">
            <a:avLst>
              <a:gd name="adj1" fmla="val 49882"/>
              <a:gd name="adj2" fmla="val 50000"/>
              <a:gd name="adj3" fmla="val 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9" idx="6"/>
            <a:endCxn id="147" idx="1"/>
          </p:cNvCxnSpPr>
          <p:nvPr/>
        </p:nvCxnSpPr>
        <p:spPr>
          <a:xfrm>
            <a:off x="4723920" y="2361960"/>
            <a:ext cx="213444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9" idx="6"/>
            <a:endCxn id="145" idx="1"/>
          </p:cNvCxnSpPr>
          <p:nvPr/>
        </p:nvCxnSpPr>
        <p:spPr>
          <a:xfrm>
            <a:off x="4724280" y="2361960"/>
            <a:ext cx="457920" cy="72468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57200" y="2057400"/>
            <a:ext cx="106668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on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3200400"/>
            <a:ext cx="1600200" cy="9144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c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e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 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32767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5" idx="3"/>
            <a:endCxn id="144" idx="1"/>
          </p:cNvCxnSpPr>
          <p:nvPr/>
        </p:nvCxnSpPr>
        <p:spPr>
          <a:xfrm flipV="1">
            <a:off x="1523520" y="2247480"/>
            <a:ext cx="30564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5" idx="3"/>
            <a:endCxn id="156" idx="1"/>
          </p:cNvCxnSpPr>
          <p:nvPr/>
        </p:nvCxnSpPr>
        <p:spPr>
          <a:xfrm>
            <a:off x="1523520" y="2514240"/>
            <a:ext cx="30564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6" idx="3"/>
            <a:endCxn id="157" idx="2"/>
          </p:cNvCxnSpPr>
          <p:nvPr/>
        </p:nvCxnSpPr>
        <p:spPr>
          <a:xfrm>
            <a:off x="3428640" y="3657240"/>
            <a:ext cx="3056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7" idx="6"/>
          </p:cNvCxnSpPr>
          <p:nvPr/>
        </p:nvCxnSpPr>
        <p:spPr>
          <a:xfrm>
            <a:off x="4876920" y="365760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334120" y="3733920"/>
            <a:ext cx="137160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7" idx="3"/>
            <a:endCxn id="169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" name=""/>
          <p:cNvCxnSpPr>
            <a:stCxn id="165" idx="3"/>
            <a:endCxn id="166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1" name=""/>
          <p:cNvCxnSpPr>
            <a:stCxn id="166" idx="6"/>
            <a:endCxn id="167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3" idx="0"/>
            <a:endCxn id="174" idx="4"/>
          </p:cNvCxnSpPr>
          <p:nvPr/>
        </p:nvCxnSpPr>
        <p:spPr>
          <a:xfrm flipV="1">
            <a:off x="990360" y="2534760"/>
            <a:ext cx="10044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76" idx="6"/>
            <a:endCxn id="167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8" name=""/>
          <p:cNvCxnSpPr>
            <a:stCxn id="173" idx="1"/>
            <a:endCxn id="173" idx="2"/>
          </p:cNvCxnSpPr>
          <p:nvPr/>
        </p:nvCxnSpPr>
        <p:spPr>
          <a:xfrm>
            <a:off x="175212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9" name=""/>
          <p:cNvCxnSpPr>
            <a:stCxn id="173" idx="3"/>
            <a:endCxn id="176" idx="2"/>
          </p:cNvCxnSpPr>
          <p:nvPr/>
        </p:nvCxnSpPr>
        <p:spPr>
          <a:xfrm flipV="1">
            <a:off x="1752120" y="3325320"/>
            <a:ext cx="18694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80" name=""/>
          <p:cNvGrpSpPr/>
          <p:nvPr/>
        </p:nvGrpSpPr>
        <p:grpSpPr>
          <a:xfrm>
            <a:off x="228600" y="3456000"/>
            <a:ext cx="1523880" cy="1066680"/>
            <a:chOff x="228600" y="3456000"/>
            <a:chExt cx="1523880" cy="1066680"/>
          </a:xfrm>
        </p:grpSpPr>
        <p:sp>
          <p:nvSpPr>
            <p:cNvPr id="173" name=""/>
            <p:cNvSpPr/>
            <p:nvPr/>
          </p:nvSpPr>
          <p:spPr>
            <a:xfrm>
              <a:off x="22860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392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3" idx="4"/>
            <a:endCxn id="182" idx="2"/>
          </p:cNvCxnSpPr>
          <p:nvPr/>
        </p:nvCxnSpPr>
        <p:spPr>
          <a:xfrm>
            <a:off x="1752120" y="3989520"/>
            <a:ext cx="168372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"/>
          <p:cNvCxnSpPr>
            <a:stCxn id="182" idx="6"/>
            <a:endCxn id="185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75" idx="2"/>
          </p:cNvCxnSpPr>
          <p:nvPr/>
        </p:nvCxnSpPr>
        <p:spPr>
          <a:xfrm>
            <a:off x="990720" y="4572000"/>
            <a:ext cx="276912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75" idx="6"/>
            <a:endCxn id="164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Tr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5" idx="0"/>
            <a:endCxn id="169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65" idx="1"/>
            <a:endCxn id="174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" name=""/>
          <p:cNvCxnSpPr>
            <a:stCxn id="169" idx="4"/>
            <a:endCxn id="164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Transaction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792520"/>
            <a:ext cx="77724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transaction object gets written out as Chado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RT commits XML to Chado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86696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182880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182880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 T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 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3" idx="3"/>
            <a:endCxn id="195" idx="2"/>
          </p:cNvCxnSpPr>
          <p:nvPr/>
        </p:nvCxnSpPr>
        <p:spPr>
          <a:xfrm>
            <a:off x="1904760" y="22093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5" idx="6"/>
            <a:endCxn id="198" idx="1"/>
          </p:cNvCxnSpPr>
          <p:nvPr/>
        </p:nvCxnSpPr>
        <p:spPr>
          <a:xfrm>
            <a:off x="3581280" y="2209320"/>
            <a:ext cx="610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8" idx="3"/>
          </p:cNvCxnSpPr>
          <p:nvPr/>
        </p:nvCxnSpPr>
        <p:spPr>
          <a:xfrm>
            <a:off x="5333760" y="22093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4" idx="6"/>
            <a:endCxn id="201" idx="2"/>
          </p:cNvCxnSpPr>
          <p:nvPr/>
        </p:nvCxnSpPr>
        <p:spPr>
          <a:xfrm>
            <a:off x="7010280" y="2209320"/>
            <a:ext cx="610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8461440" y="1652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186696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752480"/>
            <a:ext cx="114300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9" idx="3"/>
            <a:endCxn id="211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2" name=""/>
          <p:cNvCxnSpPr>
            <a:stCxn id="207" idx="3"/>
            <a:endCxn id="208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3" name=""/>
          <p:cNvCxnSpPr>
            <a:stCxn id="208" idx="6"/>
            <a:endCxn id="209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15" idx="0"/>
            <a:endCxn id="216" idx="4"/>
          </p:cNvCxnSpPr>
          <p:nvPr/>
        </p:nvCxnSpPr>
        <p:spPr>
          <a:xfrm flipV="1">
            <a:off x="990360" y="2534760"/>
            <a:ext cx="10044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8" idx="6"/>
            <a:endCxn id="209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15" idx="1"/>
            <a:endCxn id="215" idx="2"/>
          </p:cNvCxnSpPr>
          <p:nvPr/>
        </p:nvCxnSpPr>
        <p:spPr>
          <a:xfrm>
            <a:off x="175212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15" idx="3"/>
            <a:endCxn id="218" idx="2"/>
          </p:cNvCxnSpPr>
          <p:nvPr/>
        </p:nvCxnSpPr>
        <p:spPr>
          <a:xfrm flipV="1">
            <a:off x="1752120" y="3325320"/>
            <a:ext cx="18694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22" name=""/>
          <p:cNvGrpSpPr/>
          <p:nvPr/>
        </p:nvGrpSpPr>
        <p:grpSpPr>
          <a:xfrm>
            <a:off x="228600" y="3456000"/>
            <a:ext cx="1523880" cy="1066680"/>
            <a:chOff x="228600" y="3456000"/>
            <a:chExt cx="1523880" cy="1066680"/>
          </a:xfrm>
        </p:grpSpPr>
        <p:sp>
          <p:nvSpPr>
            <p:cNvPr id="215" name=""/>
            <p:cNvSpPr/>
            <p:nvPr/>
          </p:nvSpPr>
          <p:spPr>
            <a:xfrm>
              <a:off x="22860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92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5" idx="4"/>
            <a:endCxn id="224" idx="2"/>
          </p:cNvCxnSpPr>
          <p:nvPr/>
        </p:nvCxnSpPr>
        <p:spPr>
          <a:xfrm>
            <a:off x="1752120" y="3989520"/>
            <a:ext cx="168372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6" name=""/>
          <p:cNvCxnSpPr>
            <a:stCxn id="224" idx="6"/>
            <a:endCxn id="227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endCxn id="217" idx="2"/>
          </p:cNvCxnSpPr>
          <p:nvPr/>
        </p:nvCxnSpPr>
        <p:spPr>
          <a:xfrm>
            <a:off x="914400" y="4572000"/>
            <a:ext cx="284544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9" name=""/>
          <p:cNvCxnSpPr>
            <a:stCxn id="217" idx="6"/>
            <a:endCxn id="206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7" idx="0"/>
            <a:endCxn id="211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07" idx="1"/>
            <a:endCxn id="216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2" name=""/>
          <p:cNvCxnSpPr>
            <a:stCxn id="211" idx="4"/>
            <a:endCxn id="206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DBC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976120"/>
            <a:ext cx="77724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DBCTransactionWriter creates SQL from Chado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DBC commits SQL to Chado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Chado project will use this (in testing p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7684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0192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20192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6" idx="3"/>
            <a:endCxn id="239" idx="2"/>
          </p:cNvCxnSpPr>
          <p:nvPr/>
        </p:nvCxnSpPr>
        <p:spPr>
          <a:xfrm>
            <a:off x="1676160" y="2361960"/>
            <a:ext cx="64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3"/>
            <a:endCxn id="235" idx="2"/>
          </p:cNvCxnSpPr>
          <p:nvPr/>
        </p:nvCxnSpPr>
        <p:spPr>
          <a:xfrm>
            <a:off x="5105160" y="2361960"/>
            <a:ext cx="572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5" idx="6"/>
            <a:endCxn id="242" idx="2"/>
          </p:cNvCxnSpPr>
          <p:nvPr/>
        </p:nvCxnSpPr>
        <p:spPr>
          <a:xfrm>
            <a:off x="6819840" y="2361960"/>
            <a:ext cx="572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232416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DBC Tr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9" idx="6"/>
            <a:endCxn id="237" idx="1"/>
          </p:cNvCxnSpPr>
          <p:nvPr/>
        </p:nvCxnSpPr>
        <p:spPr>
          <a:xfrm>
            <a:off x="3466800" y="2361960"/>
            <a:ext cx="572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7391520" y="201924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Ad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dapters capture MOD specific behavior for IDs and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dits affect names &amp; ID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erge, split, 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 &amp; Fly have their own name ad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 from new generic GMOD name ad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179064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828800"/>
            <a:ext cx="106668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62920" y="182880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"/>
          <p:cNvCxnSpPr>
            <a:stCxn id="247" idx="3"/>
            <a:endCxn id="246" idx="2"/>
          </p:cNvCxnSpPr>
          <p:nvPr/>
        </p:nvCxnSpPr>
        <p:spPr>
          <a:xfrm>
            <a:off x="1828800" y="2171520"/>
            <a:ext cx="534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6" idx="6"/>
            <a:endCxn id="251" idx="1"/>
          </p:cNvCxnSpPr>
          <p:nvPr/>
        </p:nvCxnSpPr>
        <p:spPr>
          <a:xfrm>
            <a:off x="3504960" y="21715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4038480" y="182880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51" idx="3"/>
            <a:endCxn id="253" idx="2"/>
          </p:cNvCxnSpPr>
          <p:nvPr/>
        </p:nvCxnSpPr>
        <p:spPr>
          <a:xfrm>
            <a:off x="5105520" y="21715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5562720" y="179064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3" idx="6"/>
            <a:endCxn id="248" idx="1"/>
          </p:cNvCxnSpPr>
          <p:nvPr/>
        </p:nvCxnSpPr>
        <p:spPr>
          <a:xfrm>
            <a:off x="6705720" y="21715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d by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Transactions for compound events (name change, split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implementation (only in Annotation Info Edi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17524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1790640"/>
            <a:ext cx="106704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17906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8" idx="3"/>
            <a:endCxn id="257" idx="2"/>
          </p:cNvCxnSpPr>
          <p:nvPr/>
        </p:nvCxnSpPr>
        <p:spPr>
          <a:xfrm>
            <a:off x="3276360" y="21333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7" idx="6"/>
            <a:endCxn id="259" idx="1"/>
          </p:cNvCxnSpPr>
          <p:nvPr/>
        </p:nvCxnSpPr>
        <p:spPr>
          <a:xfrm>
            <a:off x="5028840" y="21333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6996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tation Info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1805040"/>
            <a:ext cx="77724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DBC Reader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nfigurable (XML config f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out of range lea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opti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mmand-line arguments for reading and wri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62320" y="1790640"/>
            <a:ext cx="99036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1312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3"/>
            <a:endCxn id="274" idx="2"/>
          </p:cNvCxnSpPr>
          <p:nvPr/>
        </p:nvCxnSpPr>
        <p:spPr>
          <a:xfrm>
            <a:off x="7162560" y="3325320"/>
            <a:ext cx="572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5" name=""/>
          <p:cNvCxnSpPr>
            <a:stCxn id="270" idx="3"/>
            <a:endCxn id="271" idx="2"/>
          </p:cNvCxnSpPr>
          <p:nvPr/>
        </p:nvCxnSpPr>
        <p:spPr>
          <a:xfrm>
            <a:off x="3352320" y="2095200"/>
            <a:ext cx="46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6" name=""/>
          <p:cNvCxnSpPr>
            <a:stCxn id="271" idx="6"/>
            <a:endCxn id="272" idx="0"/>
          </p:cNvCxnSpPr>
          <p:nvPr/>
        </p:nvCxnSpPr>
        <p:spPr>
          <a:xfrm>
            <a:off x="518436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734240" y="3021120"/>
            <a:ext cx="83844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8" idx="0"/>
            <a:endCxn id="279" idx="4"/>
          </p:cNvCxnSpPr>
          <p:nvPr/>
        </p:nvCxnSpPr>
        <p:spPr>
          <a:xfrm flipV="1">
            <a:off x="1066680" y="2534760"/>
            <a:ext cx="10080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6640" y="55274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448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44200" y="2871720"/>
            <a:ext cx="195768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81" idx="6"/>
            <a:endCxn id="272" idx="1"/>
          </p:cNvCxnSpPr>
          <p:nvPr/>
        </p:nvCxnSpPr>
        <p:spPr>
          <a:xfrm>
            <a:off x="5473800" y="3325320"/>
            <a:ext cx="69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8" idx="1"/>
            <a:endCxn id="278" idx="2"/>
          </p:cNvCxnSpPr>
          <p:nvPr/>
        </p:nvCxnSpPr>
        <p:spPr>
          <a:xfrm>
            <a:off x="182844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"/>
          <p:cNvCxnSpPr>
            <a:stCxn id="278" idx="3"/>
            <a:endCxn id="281" idx="2"/>
          </p:cNvCxnSpPr>
          <p:nvPr/>
        </p:nvCxnSpPr>
        <p:spPr>
          <a:xfrm flipV="1">
            <a:off x="1828800" y="3325320"/>
            <a:ext cx="174384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85" name=""/>
          <p:cNvGrpSpPr/>
          <p:nvPr/>
        </p:nvGrpSpPr>
        <p:grpSpPr>
          <a:xfrm>
            <a:off x="304920" y="3456000"/>
            <a:ext cx="1523880" cy="1066680"/>
            <a:chOff x="304920" y="3456000"/>
            <a:chExt cx="1523880" cy="1066680"/>
          </a:xfrm>
        </p:grpSpPr>
        <p:sp>
          <p:nvSpPr>
            <p:cNvPr id="278" name=""/>
            <p:cNvSpPr/>
            <p:nvPr/>
          </p:nvSpPr>
          <p:spPr>
            <a:xfrm>
              <a:off x="30492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024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484440" y="4232160"/>
            <a:ext cx="20289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78" idx="4"/>
            <a:endCxn id="287" idx="2"/>
          </p:cNvCxnSpPr>
          <p:nvPr/>
        </p:nvCxnSpPr>
        <p:spPr>
          <a:xfrm>
            <a:off x="1828800" y="3989520"/>
            <a:ext cx="168336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9" name=""/>
          <p:cNvCxnSpPr>
            <a:stCxn id="287" idx="6"/>
            <a:endCxn id="290" idx="1"/>
          </p:cNvCxnSpPr>
          <p:nvPr/>
        </p:nvCxnSpPr>
        <p:spPr>
          <a:xfrm>
            <a:off x="548640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78" idx="5"/>
            <a:endCxn id="280" idx="2"/>
          </p:cNvCxnSpPr>
          <p:nvPr/>
        </p:nvCxnSpPr>
        <p:spPr>
          <a:xfrm>
            <a:off x="1066320" y="4522320"/>
            <a:ext cx="2769480" cy="145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2" name=""/>
          <p:cNvCxnSpPr>
            <a:stCxn id="280" idx="6"/>
            <a:endCxn id="269" idx="2"/>
          </p:cNvCxnSpPr>
          <p:nvPr/>
        </p:nvCxnSpPr>
        <p:spPr>
          <a:xfrm>
            <a:off x="5162040" y="5981400"/>
            <a:ext cx="2382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5943600" y="4381560"/>
            <a:ext cx="129528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0" idx="0"/>
            <a:endCxn id="274" idx="3"/>
          </p:cNvCxnSpPr>
          <p:nvPr/>
        </p:nvCxnSpPr>
        <p:spPr>
          <a:xfrm flipV="1">
            <a:off x="6590880" y="3540960"/>
            <a:ext cx="126612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0" idx="1"/>
            <a:endCxn id="279" idx="6"/>
          </p:cNvCxnSpPr>
          <p:nvPr/>
        </p:nvCxnSpPr>
        <p:spPr>
          <a:xfrm flipH="1">
            <a:off x="1829880" y="2095200"/>
            <a:ext cx="53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5" name=""/>
          <p:cNvCxnSpPr>
            <a:stCxn id="274" idx="4"/>
            <a:endCxn id="269" idx="1"/>
          </p:cNvCxnSpPr>
          <p:nvPr/>
        </p:nvCxnSpPr>
        <p:spPr>
          <a:xfrm>
            <a:off x="815292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04560" y="37335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write ChadoXML without G2C/C2G conve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o save annotation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exons using shared ex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non-redundant set of ex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from lowest to highest st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doXML Adap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83040" y="1409760"/>
            <a:ext cx="841320" cy="51732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91080" y="1371600"/>
            <a:ext cx="1165320" cy="5824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92920" y="2639880"/>
            <a:ext cx="841320" cy="5176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98" idx="3"/>
            <a:endCxn id="299" idx="2"/>
          </p:cNvCxnSpPr>
          <p:nvPr/>
        </p:nvCxnSpPr>
        <p:spPr>
          <a:xfrm flipV="1">
            <a:off x="3924360" y="1663200"/>
            <a:ext cx="6674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" name=""/>
          <p:cNvCxnSpPr>
            <a:stCxn id="299" idx="6"/>
            <a:endCxn id="300" idx="0"/>
          </p:cNvCxnSpPr>
          <p:nvPr/>
        </p:nvCxnSpPr>
        <p:spPr>
          <a:xfrm>
            <a:off x="5756400" y="1663560"/>
            <a:ext cx="1558080" cy="9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" name=""/>
          <p:cNvCxnSpPr>
            <a:stCxn id="304" idx="0"/>
            <a:endCxn id="305" idx="4"/>
          </p:cNvCxnSpPr>
          <p:nvPr/>
        </p:nvCxnSpPr>
        <p:spPr>
          <a:xfrm flipV="1">
            <a:off x="1790640" y="2088360"/>
            <a:ext cx="4824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1146240" y="119520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58440" y="2425680"/>
            <a:ext cx="195768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6"/>
            <a:endCxn id="300" idx="1"/>
          </p:cNvCxnSpPr>
          <p:nvPr/>
        </p:nvCxnSpPr>
        <p:spPr>
          <a:xfrm>
            <a:off x="6188040" y="2879280"/>
            <a:ext cx="70524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" name=""/>
          <p:cNvCxnSpPr>
            <a:stCxn id="304" idx="1"/>
            <a:endCxn id="304" idx="2"/>
          </p:cNvCxnSpPr>
          <p:nvPr/>
        </p:nvCxnSpPr>
        <p:spPr>
          <a:xfrm>
            <a:off x="2437920" y="29682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9" name=""/>
          <p:cNvCxnSpPr>
            <a:stCxn id="304" idx="3"/>
            <a:endCxn id="306" idx="2"/>
          </p:cNvCxnSpPr>
          <p:nvPr/>
        </p:nvCxnSpPr>
        <p:spPr>
          <a:xfrm flipV="1">
            <a:off x="2437920" y="2878920"/>
            <a:ext cx="18486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10" name=""/>
          <p:cNvGrpSpPr/>
          <p:nvPr/>
        </p:nvGrpSpPr>
        <p:grpSpPr>
          <a:xfrm>
            <a:off x="1143000" y="2514600"/>
            <a:ext cx="1295280" cy="906480"/>
            <a:chOff x="1143000" y="2514600"/>
            <a:chExt cx="1295280" cy="906480"/>
          </a:xfrm>
        </p:grpSpPr>
        <p:sp>
          <p:nvSpPr>
            <p:cNvPr id="304" name=""/>
            <p:cNvSpPr/>
            <p:nvPr/>
          </p:nvSpPr>
          <p:spPr>
            <a:xfrm>
              <a:off x="1143000" y="2514600"/>
              <a:ext cx="1295280" cy="9064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45400" y="28112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2" name=""/>
          <p:cNvCxnSpPr>
            <a:stCxn id="298" idx="1"/>
            <a:endCxn id="305" idx="6"/>
          </p:cNvCxnSpPr>
          <p:nvPr/>
        </p:nvCxnSpPr>
        <p:spPr>
          <a:xfrm flipH="1" flipV="1">
            <a:off x="2502000" y="1648800"/>
            <a:ext cx="5814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doXML adapter: What it doesn’t do (y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yet handle macros (will s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yet roundtrip all non-Apollo data (e.g. feature_cvte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have appropriate datamodels inside Ap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beef up some datamodels, e.g. for synonyms (author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somewhat fly-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GAME XML schema description (game.r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-NG can represent elements that occur in any order but only o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 “start” and “end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ranslate rng to xsd (less str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76680" y="4453560"/>
            <a:ext cx="5667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lement name="annot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terleav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option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ttribute name="problem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ata type="boolea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attribu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option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ttribute name="id"&g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saving of GAME and ChadoXM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ed saving much f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conds vs.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ave just annotations (and genomic residues) withou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515960" y="4152960"/>
            <a:ext cx="61120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 can now be deleted (as well as added or changed) in annot info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mmand-line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pecify input (or output) filename or source an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es format if not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UserName class and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Windows-only problem: mouse-over brought main window to fro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on Slenk of T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analysis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/layer raw computational analysis output (BLAST, BLAT, GENSCA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e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analysis: from subject to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fly-centric ChadoXML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mac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JDBC writeback &amp;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Not As 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Un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synte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edi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ypes editor, incorporating Sequence Ontology (SO) te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llo web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Web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better query t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blank Ap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on particular region (Mozilla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from commu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9621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 is 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30, 2005: Apollo team runs out of money…unless grant application gets f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justification for grant: Apollo community describes how important Apollo is to thei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Apollo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bidopsis Information Resource (T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curation of computatio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te new data adapter (relational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e for Systems Biology, Seattle (Alistair Ru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ing putative transcription factor binding site predictions for various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British Columbia Bioinformatics Centre (UB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gasys computational pipeline-&gt; GAME -&gt; Apollo -&gt; manual cu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d write initial Chado JDBC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use Apollo in production annotation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ciumDB, Gen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GMOD software (Chado db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to use Apollo for community annotation c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46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yBase Berke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zanna Lewis, Nomi Harris, Mark Gibson, Sima Mis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nming Wu, Scott 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t contribu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nger Institute--Steve Searle, Michele Clamp, Vivek I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HMI--John Day-Ri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GR--Jonathan Cra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yBase--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69360" y="5485320"/>
            <a:ext cx="80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er available a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ttp://www.fruitfly.org/annot/apollo/install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available at SourceForge: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ttp://sourceforge.net/projects/g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848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3"/>
            <a:endCxn id="61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>
            <a:stCxn id="57" idx="3"/>
            <a:endCxn id="58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58" idx="6"/>
            <a:endCxn id="59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5" idx="0"/>
            <a:endCxn id="66" idx="4"/>
          </p:cNvCxnSpPr>
          <p:nvPr/>
        </p:nvCxnSpPr>
        <p:spPr>
          <a:xfrm flipH="1" flipV="1">
            <a:off x="1090080" y="2534760"/>
            <a:ext cx="53280" cy="87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8" idx="6"/>
            <a:endCxn id="59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>
            <a:stCxn id="65" idx="1"/>
            <a:endCxn id="65" idx="2"/>
          </p:cNvCxnSpPr>
          <p:nvPr/>
        </p:nvCxnSpPr>
        <p:spPr>
          <a:xfrm>
            <a:off x="1904760" y="3809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5" idx="3"/>
            <a:endCxn id="68" idx="2"/>
          </p:cNvCxnSpPr>
          <p:nvPr/>
        </p:nvCxnSpPr>
        <p:spPr>
          <a:xfrm flipV="1">
            <a:off x="1904760" y="3324960"/>
            <a:ext cx="171684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2" name=""/>
          <p:cNvGrpSpPr/>
          <p:nvPr/>
        </p:nvGrpSpPr>
        <p:grpSpPr>
          <a:xfrm>
            <a:off x="380880" y="3276720"/>
            <a:ext cx="1523880" cy="1066680"/>
            <a:chOff x="380880" y="3276720"/>
            <a:chExt cx="1523880" cy="1066680"/>
          </a:xfrm>
        </p:grpSpPr>
        <p:sp>
          <p:nvSpPr>
            <p:cNvPr id="65" name=""/>
            <p:cNvSpPr/>
            <p:nvPr/>
          </p:nvSpPr>
          <p:spPr>
            <a:xfrm>
              <a:off x="380880" y="327672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6200" y="362556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5" idx="4"/>
            <a:endCxn id="74" idx="2"/>
          </p:cNvCxnSpPr>
          <p:nvPr/>
        </p:nvCxnSpPr>
        <p:spPr>
          <a:xfrm>
            <a:off x="1904760" y="3809520"/>
            <a:ext cx="1531080" cy="87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6" name=""/>
          <p:cNvCxnSpPr>
            <a:stCxn id="74" idx="6"/>
            <a:endCxn id="77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endCxn id="67" idx="2"/>
          </p:cNvCxnSpPr>
          <p:nvPr/>
        </p:nvCxnSpPr>
        <p:spPr>
          <a:xfrm>
            <a:off x="1142640" y="4419360"/>
            <a:ext cx="2616840" cy="156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67" idx="6"/>
            <a:endCxn id="56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7" idx="0"/>
            <a:endCxn id="61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57" idx="1"/>
            <a:endCxn id="66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61" idx="4"/>
            <a:endCxn id="56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s &amp; Integrated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” DB has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peout &amp; insert” will have a hard time preserving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 writeback does not affect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d objects are missing from saved data file—need transactions to keep track of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3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s &amp;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44480" y="2843280"/>
            <a:ext cx="75096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47720" y="4953240"/>
            <a:ext cx="94032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8960" y="5728320"/>
            <a:ext cx="1899360" cy="821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91000" y="1511640"/>
            <a:ext cx="1815480" cy="11646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61800" y="5376960"/>
            <a:ext cx="105048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34800" y="5376960"/>
            <a:ext cx="100548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1040" y="4013280"/>
            <a:ext cx="746280" cy="5806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7280" y="3810600"/>
            <a:ext cx="1241280" cy="8240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i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76120" y="3078360"/>
            <a:ext cx="1241280" cy="5806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47480" y="4246560"/>
            <a:ext cx="777960" cy="5806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4" idx="3"/>
            <a:endCxn id="88" idx="2"/>
          </p:cNvCxnSpPr>
          <p:nvPr/>
        </p:nvCxnSpPr>
        <p:spPr>
          <a:xfrm flipV="1">
            <a:off x="1063440" y="3080880"/>
            <a:ext cx="611640" cy="1223280"/>
          </a:xfrm>
          <a:prstGeom prst="bentConnector3">
            <a:avLst>
              <a:gd name="adj1" fmla="val 49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8" idx="6"/>
            <a:endCxn id="95" idx="1"/>
          </p:cNvCxnSpPr>
          <p:nvPr/>
        </p:nvCxnSpPr>
        <p:spPr>
          <a:xfrm>
            <a:off x="2365200" y="3080880"/>
            <a:ext cx="975600" cy="11422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4" idx="3"/>
            <a:endCxn id="89" idx="2"/>
          </p:cNvCxnSpPr>
          <p:nvPr/>
        </p:nvCxnSpPr>
        <p:spPr>
          <a:xfrm>
            <a:off x="1063800" y="4303440"/>
            <a:ext cx="613440" cy="8881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9" idx="6"/>
            <a:endCxn id="95" idx="1"/>
          </p:cNvCxnSpPr>
          <p:nvPr/>
        </p:nvCxnSpPr>
        <p:spPr>
          <a:xfrm flipV="1">
            <a:off x="2558880" y="4222440"/>
            <a:ext cx="781920" cy="96912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0" idx="0"/>
          </p:cNvCxnSpPr>
          <p:nvPr/>
        </p:nvCxnSpPr>
        <p:spPr>
          <a:xfrm>
            <a:off x="3968280" y="4640400"/>
            <a:ext cx="108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95" idx="0"/>
            <a:endCxn id="104" idx="2"/>
          </p:cNvCxnSpPr>
          <p:nvPr/>
        </p:nvCxnSpPr>
        <p:spPr>
          <a:xfrm flipV="1" rot="16200000">
            <a:off x="3319560" y="3156120"/>
            <a:ext cx="1291320" cy="684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95" idx="3"/>
            <a:endCxn id="91" idx="2"/>
          </p:cNvCxnSpPr>
          <p:nvPr/>
        </p:nvCxnSpPr>
        <p:spPr>
          <a:xfrm flipV="1">
            <a:off x="4595400" y="2093400"/>
            <a:ext cx="1723320" cy="21297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1" idx="4"/>
            <a:endCxn id="96" idx="0"/>
          </p:cNvCxnSpPr>
          <p:nvPr/>
        </p:nvCxnSpPr>
        <p:spPr>
          <a:xfrm rot="5400000">
            <a:off x="6993360" y="2867760"/>
            <a:ext cx="41004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6" idx="2"/>
          </p:cNvCxnSpPr>
          <p:nvPr/>
        </p:nvCxnSpPr>
        <p:spPr>
          <a:xfrm rot="5400000">
            <a:off x="6495480" y="3416040"/>
            <a:ext cx="454680" cy="950040"/>
          </a:xfrm>
          <a:prstGeom prst="bentConnector3">
            <a:avLst>
              <a:gd name="adj1" fmla="val 656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6" idx="2"/>
            <a:endCxn id="97" idx="0"/>
          </p:cNvCxnSpPr>
          <p:nvPr/>
        </p:nvCxnSpPr>
        <p:spPr>
          <a:xfrm flipH="1" rot="16200000">
            <a:off x="7328520" y="3532680"/>
            <a:ext cx="578520" cy="840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10" idx="2"/>
            <a:endCxn id="92" idx="0"/>
          </p:cNvCxnSpPr>
          <p:nvPr/>
        </p:nvCxnSpPr>
        <p:spPr>
          <a:xfrm flipV="1" rot="10800000">
            <a:off x="6285960" y="5028840"/>
            <a:ext cx="108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7" idx="2"/>
            <a:endCxn id="93" idx="0"/>
          </p:cNvCxnSpPr>
          <p:nvPr/>
        </p:nvCxnSpPr>
        <p:spPr>
          <a:xfrm flipV="1" rot="10800000">
            <a:off x="8036640" y="4832280"/>
            <a:ext cx="1080" cy="55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2" idx="4"/>
            <a:endCxn id="113" idx="2"/>
          </p:cNvCxnSpPr>
          <p:nvPr/>
        </p:nvCxnSpPr>
        <p:spPr>
          <a:xfrm flipH="1" rot="16200000">
            <a:off x="6309360" y="5815080"/>
            <a:ext cx="448560" cy="49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3" idx="4"/>
            <a:endCxn id="113" idx="4"/>
          </p:cNvCxnSpPr>
          <p:nvPr/>
        </p:nvCxnSpPr>
        <p:spPr>
          <a:xfrm rot="5400000">
            <a:off x="7642080" y="5892120"/>
            <a:ext cx="448560" cy="342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781680" y="594360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1600200"/>
            <a:ext cx="152388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nterim s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4114800"/>
            <a:ext cx="114300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159000"/>
            <a:ext cx="7772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 fine grain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object cont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(add, delete, up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(gene, transcript, ex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part (none, comment, nam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“action” can result in many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19051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1943280"/>
            <a:ext cx="106668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4328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8" idx="3"/>
            <a:endCxn id="117" idx="2"/>
          </p:cNvCxnSpPr>
          <p:nvPr/>
        </p:nvCxnSpPr>
        <p:spPr>
          <a:xfrm>
            <a:off x="2895480" y="2285640"/>
            <a:ext cx="991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7" idx="6"/>
            <a:endCxn id="119" idx="1"/>
          </p:cNvCxnSpPr>
          <p:nvPr/>
        </p:nvCxnSpPr>
        <p:spPr>
          <a:xfrm>
            <a:off x="5029200" y="2285640"/>
            <a:ext cx="9151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e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 out redundan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at commi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16765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1468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3"/>
            <a:endCxn id="124" idx="2"/>
          </p:cNvCxnSpPr>
          <p:nvPr/>
        </p:nvCxnSpPr>
        <p:spPr>
          <a:xfrm>
            <a:off x="4190760" y="2057040"/>
            <a:ext cx="991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7:44:26Z</dcterms:created>
  <dc:creator>Mark Gibson</dc:creator>
  <dc:description/>
  <dc:language>en-US</dc:language>
  <cp:lastModifiedBy>Nomi Haris</cp:lastModifiedBy>
  <dcterms:modified xsi:type="dcterms:W3CDTF">2005-05-20T05:06:46Z</dcterms:modified>
  <cp:revision>312</cp:revision>
  <dc:subject/>
  <dc:title>Apollo progress</dc:title>
</cp:coreProperties>
</file>